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4E99E-7056-48BF-96DC-F22CBCC9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B8A70-63CF-4A78-8D82-B6D299CC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294FB-59AB-4D94-9BCB-6F92CD53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80ED4-1AD7-44FF-BD3B-E57B7EDB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A939-4108-4E2F-A3E4-66B577EB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4471-17D7-4855-B052-ADBB4D5D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CFEB-0A34-4B57-BF09-B7E001F4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10BA-80FA-4851-9E5C-29F98E9F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C90A-2667-4605-A487-D0213171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DDC2-BD4A-49BC-8390-6E0CDFEF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770A-5E57-4BF7-86F1-9F8B0588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AF467-6040-421E-A2CC-0BC733BE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AB7D-F02F-457B-8EFB-687B9E1B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3578-7A5F-4AC0-BFAE-6F101B2D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09B8-AC0D-47BE-8CA4-ADAC4A7F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DB7A-4F65-446D-8ECC-6BA746F3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796D-5B2E-46E1-9BDF-AD29711B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B4CB3-2286-4CD1-8B16-3537FEA7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5067E-B7D6-408E-93B3-DCAB7E83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E0405-F0B2-43AD-85FA-B73E875E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20A75-F368-4B40-AA58-62E78784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2CD03-876B-4104-BFB2-4AE42C15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0E6B3-CB13-4BB6-8F06-80B8B25C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61102-E039-41A2-8EE3-D1BAEAB6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D987-F342-4498-AC23-1614FFC8179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8269-D7AA-41D9-B75B-C8068902FCA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588600"/>
            <a:ext cx="11279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2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3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Ти, Който сам раздваш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тинската светлин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йто славно просвещаваш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з, що стенат в тъмнин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кажи ни милостта Си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ден нощта ни промен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 зари от любовта С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ъмнината разпръсн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85500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от хаос небеса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земята Си създал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ебето, и земя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подновиш обещал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тъмнината ни яви с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пред нашите сърц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то слънце зазори с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живот и мир в Отц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794160" y="448920"/>
            <a:ext cx="72219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ето лице прогонв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чките ни страхов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овото Ти ни посочв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чките ни грехове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ела, мил наш Спасител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кажи ни Твоя път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бъди ни Изкупител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дари ни благода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4T15:36:18Z</dcterms:modified>
  <cp:revision>26</cp:revision>
  <dc:subject/>
  <dc:title>Slide 1</dc:title>
</cp:coreProperties>
</file>